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541-6509-426D-880E-09622DD4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F45-9617-46B0-80A2-AD73EAC5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5CEC6-E75E-4968-81BD-0E2EDF14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1FE19-4521-417D-AA60-B2270E8A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E9F2C-D6F0-4EBD-A052-42CA05AA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F973D-100B-4A32-B6A2-DC644FDA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9BE18-F1D8-48A7-90B9-7D611B27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FCAD2-F0BE-43B9-8C61-1F898275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A3E96-0D32-4331-A792-95313E66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1415A-07A7-446A-B091-471FD535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CDD8B-4C30-425E-9D40-60694F1E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208E5-AED4-4D82-BFDA-BCFF435A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649-5E04-442F-9785-9AAA50E7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04182-E7D8-4168-AC70-C94338BD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AA711-B38B-46DF-97D3-906E88BE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54905-8A2C-4F8E-BEB8-AD019CF6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75994-5E73-40A2-B1D4-AB55C735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5478E-641F-45B7-8813-40A49988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371DB-DB40-4161-88A2-FBF74698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6DC52-B3D8-4AD2-8011-19B61DAC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F9419-BC7C-415B-846D-9BF888E9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D9F24-7CE6-4C1C-902A-5E45BBA8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4D2AD-31C6-4D1E-82FA-EC1285F9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104-D6C9-401C-928A-83EC1E19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5EF60-EA99-41F7-9814-E2D85A3B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1F9B0-BA13-4876-95F3-D3D14E2B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CE0A8-2614-4EDC-8F70-F61F343A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40947-B500-45A0-A52D-836305AA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22FAD-4D4C-4C2F-ADFC-C0C0053F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65798-642F-4519-B952-E29316E0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56939-8455-45E2-BB08-59DB7F07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720CA-E16E-4AC4-A32D-A218B42B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BD0E8-4184-4482-BA8D-6DB40447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99362-5B82-459D-B986-E9051164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4738-65FB-4018-9FD7-6D2DAFA1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147F6-A3EE-4DC8-B4E5-8E335F3C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FBF2E-C1FB-4ED9-A150-792C4953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F54DA-D276-483E-95CB-F61AD6CF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95FF9-F51A-49EE-B177-3D0090F9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BF25F-7E90-4F51-8101-D8D65386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51C5A-905D-405E-8354-36EC1086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7472F-AB20-4B10-B54D-AD822E5F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D10DC-52ED-4F3B-89CB-23C5EE49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25841-D48D-4879-8F22-B4DC59D8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FFDBA-ECE5-46C3-83D2-EE861366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33FE-D669-4E09-BE0C-9901F7F6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8168E-37C4-4488-824E-BD9FA0BD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5ADEF-B275-4AC0-8E6D-7569E2C1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80A2B-56CF-494F-98B5-FFDEF3A9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7BC99-FE19-4A7A-AAE7-2800A984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7CB17-F543-4B7E-8CDA-D6612BBA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5450-4AC4-43DA-B953-15E86510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B43A-EA50-4592-BB61-0C075B3D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0509-9508-44C8-BA23-AB496500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7A2D-C465-4DCD-8136-B0063255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34D4-12E8-47F2-A246-5FB7C21E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6CE-4E1E-4584-A0C1-979B2BF7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D0CB-1F03-41F1-B03A-C8EDA737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569F-1576-42AA-AF97-85C4ED79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8957-1EC5-4886-893E-9D49D484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FE5D-C525-4426-A351-19B2E503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E814-81AB-498D-88BF-E750713B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099A-07C6-4FD5-ACC8-25C35134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1D6D7-D909-41AC-9BE8-C01B20FD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0D8D7-B467-421C-BEBC-DFCAA694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C53C3-5309-446C-8231-478EFF5B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1F365-2208-4961-BA32-4CFFD688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94A-E42A-4BD8-BA18-3157A0DF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D9AC9-4052-40C0-9D02-A2565EE4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5E609-DC96-4C6F-8983-272EE543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5D7BF-AB17-4186-8005-866E005E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183B6-97F6-4EA4-A878-D3E8C9D5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86B6A-8DB9-4D7F-BB71-779BFCC6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8CF5-DC9B-4B1D-B3E2-05522769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34FE4-0680-45F1-AFC0-7250A576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1208F-E6C3-44D8-9D10-40F46AA4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22C35-C954-4A75-9A83-DA1D9340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80796-DCA1-4AD4-B3A9-52EE6CEF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EE8-58AF-4D81-A844-80910D33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0D43E-CB13-4B49-A21E-9286339D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ED453-92FE-43D5-9176-AFA3D280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950D9-CDC4-429A-9ADE-95D4D6BC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E5A6-D9E5-40F0-B4EE-10770AD5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1D716-D85E-499C-BCC2-234CAD17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E6D6C-5CB9-43CE-AB69-55351A4A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F0D83-829E-46B0-887D-C1B8B0D9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AF684-51A1-4945-9C81-8ED74BF4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8DD43-E939-420C-994D-7C7E0C1A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FC02A-8FD7-46B5-B74F-E9C0BB33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403-D9F1-495B-8268-CE58F152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BC70-2CE9-47B3-A1A1-A25B21DD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89DCF-8F1D-4B0F-B676-6886562C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BC888-B42D-4D14-92AC-BF96F975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B98A4-BB69-40FD-A79E-A491245D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A99B1-5BA8-4900-93DD-C361050F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BA107-7148-4E21-BC30-3FFFDD2A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6965D-8246-49C2-9E17-ABC0357F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47DE5-1898-4AF9-9E83-A35A44B5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3A5B3-A9D8-418A-B194-FD01C2B9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5FF5E-9575-407F-9F9A-56E337C3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1DA-4C11-4E9E-ADF9-CEFB8B7A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1A0F3-434F-4F4F-9246-2A9EDFA0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C4F4E-9860-47A8-92C3-3E8D39E3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F7990-D7EB-4E28-93CE-67C84050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02322-F9AC-4828-ADD7-91AFD0CD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EC974-5F25-4E1F-9391-E4A54F25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00B77-9336-420B-AB6E-FD2BF3F7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91A79-B752-4BB9-808A-2981D33B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C1286-E52F-4FFC-AB9D-422830C7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7EA18-6BCB-451F-BCDC-ECE9F18E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E2A8E-770C-4C8A-9771-E958B40E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6CB-00BB-48E5-BC8B-194BCB3F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46BEA-D5C8-4E3A-A490-E62EFE4E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036BC-6F6F-4E04-B91C-D1070372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C1DFC-D53C-42B3-8F0B-85C5DE9C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C6971-2222-4E26-ADCA-213947EC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191D5-0001-4724-955E-72EFD07C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06994-F8E3-425D-87FF-B816D036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47598-355D-4AD2-94EF-DCFDD136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28D33-6679-48D4-B7D2-DD17A48A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BA65D-CE17-4418-92D7-96292F03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464A3-1E06-4AB3-A718-6AC57E21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64D-9A1F-4717-97A1-5BFF31DD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D9141-C792-4273-A0A2-E482CC56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7965A-3B12-4B58-B559-BDE4EC50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C7E4B-B082-4724-979E-EB03E26A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E5E08-6337-49E5-8DB6-11F327D5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554F7-B822-4164-AF10-61798E98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761C4-C79B-4225-8913-9F1E25C5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0102D-181E-4AFF-B890-27D41024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EE272-F669-4167-B040-C58FBEA7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0CA7F-626E-4E75-AC7E-1153B265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C0130-67DE-4F26-BF4F-577AA96D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D4A-FD8A-4F90-A1FB-83CAF6D6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FF60A-4F9C-481F-83DA-21EA02DA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30779-38AF-459B-AADB-8D7BDC7F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C6BF3-4A48-43BC-906B-66B172DF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12EB2-67F7-415D-899A-D3F90321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A12DB-3E7C-4E80-A08A-71F80B64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1BF5F-687B-4574-9E2C-F8839C96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3A188-920C-4B9D-AA2A-34D8CD49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2B0CC-F9B4-41E1-B9F5-61CCBA42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F5298-B8F0-4A01-910D-733CA4F2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D43EB-CD92-4841-B6A1-29D53C0A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A88E-DE49-4B93-B576-BD5780687CD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2DD3-D395-4FD7-A5ED-F8FBF26AFB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A94A-EEFC-4106-B7E4-A4CF662CE8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C693-D02F-44F5-9DD9-73C705F5FA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699C-E93A-4A36-A305-A4C96F08BA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CD40-2F52-4FA8-B276-95696CDE573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6A2F-788E-4F34-9DF2-7201C75F1F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3E49-918E-48B2-AB8A-5AF1598D619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5B4B-E393-4BA7-8231-9C85A1C4791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DB46-F422-4437-B99E-A551B45B53F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5610-7DDC-4370-ABB7-04C62D4ABFC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2936-9C52-44C1-B058-4903C67B5B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7 Chváľme Boha piesňa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Boha piesň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lebme ho žalm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vždy jasnej piesne tó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náša sa pred Boží tró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me Boha za mil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n vzácny neba skvos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 Synovi svojom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spásou sveta sta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lý vesmír vďaku vz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o láske rozpráv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sa svetu zjavi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u, vín ho zbavil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Haleluj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8:00:55Z</dcterms:modified>
  <cp:revision>12</cp:revision>
  <dc:subject/>
  <dc:title>Je veľký náš Pán, on slávy je Kráľ Nech do všetkých strán  spev vrúcnych znie chvál.</dc:title>
</cp:coreProperties>
</file>